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37F-FF64-4CB5-9C05-A4A839DB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D21-7F41-453A-8A41-0DA738AD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EF61-6DCC-44E0-A097-8DBD1F83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371-B62D-4223-A620-54146FDC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05A-7326-4E79-9BD0-1DD112C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AA8-4F1E-40C4-90E0-B426CF90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4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4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E98-7EFD-4F69-A10A-F007BD31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1181-8A86-4E50-BE78-8A54CEED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A2CF-9EE7-4069-9E74-9E55E68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86C-DE2A-4B4B-9772-FE1758D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4E9D-3A0E-48CB-A1B0-708CADF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AC03-2882-4E39-BE40-265ACB7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075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4F0B-D506-41F7-B340-FD7E3FF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14B5-DE95-46CF-A135-1BCF47AB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737-5106-4362-B5B4-482BA0C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1FC9-4738-436B-89C2-2671F0A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7D3-89E6-4A63-AC96-649D85F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C307-A758-44BC-BE6B-079B1FE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24D-EFF4-4E98-8473-5007E901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0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4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0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24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273-CDAE-4E15-97D3-04092A6C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770-B608-47E8-8F85-2C5040D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CAE-8D0F-4805-AB59-59765E2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A58-005A-404A-923B-AF839401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075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E19-9DF9-460B-9F60-CC45EEE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641-D8D5-4D73-B3D3-661D199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405-D6CC-4016-84E1-C3C5B9A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632-C513-45A9-8772-6BFBBF4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AFB7-1194-4E97-9E48-3A3A9100C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B3B-D78A-4928-B932-07F333C6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cstyles.com/mlaguide.ht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v.mb.ca/finance/fedprov/odour.html" TargetMode="External"/><Relationship Id="rId3" Type="http://schemas.openxmlformats.org/officeDocument/2006/relationships/hyperlink" Target="http://me.rrc.mb.ca/Catalogue/Default.aspx?Link=Programs.asp?DeliveryCode=F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c11ce"/>
                </a:solidFill>
                <a:latin typeface="Arial"/>
              </a:rPr>
              <a:t>MLA Style in Reports</a:t>
            </a:r>
            <a:endParaRPr b="0" lang="en-US" sz="48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00"/>
                </a:solidFill>
                <a:latin typeface="Arial"/>
              </a:rPr>
              <a:t>Formatting Works Cite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File"/>
          <p:cNvSpPr/>
          <p:nvPr/>
        </p:nvSpPr>
        <p:spPr>
          <a:xfrm>
            <a:off x="6934320" y="5486400"/>
            <a:ext cx="2057400" cy="981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600"/>
                </a:solidFill>
                <a:latin typeface="Symbol"/>
                <a:ea typeface="Symbol"/>
              </a:rPr>
              <a:t></a:t>
            </a:r>
            <a:r>
              <a:rPr b="0" lang="en-US" sz="1600" spc="-1" strike="noStrike">
                <a:solidFill>
                  <a:srgbClr val="ebe600"/>
                </a:solidFill>
                <a:latin typeface="Arial"/>
              </a:rPr>
              <a:t>Les Hanson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Logo1red"/>
          <p:cNvPicPr/>
          <p:nvPr/>
        </p:nvPicPr>
        <p:blipFill>
          <a:blip r:embed="rId2"/>
          <a:stretch/>
        </p:blipFill>
        <p:spPr>
          <a:xfrm>
            <a:off x="152280" y="6095880"/>
            <a:ext cx="373860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3040" y="1981080"/>
            <a:ext cx="873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D-ROM Citations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al CD-ROM data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liland, Steve. “Keeping Track of your Time.” Computer Shopper. Jan. 1994:486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gazine Article Summary. Computer Select CD-ROM. Aug. 1994, item 802 174 190 021 000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Electronic Databases (Ebsco)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, First Name. “Title of the Article.” Journal Title. Volume.Issue # (Publication Date): pages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ademic Search Premier. EBSCOhost. Library Name, City, Province. Date accessed &lt;http://search.epnet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Minn, John. “Mainstreaming Green.”Canadian Architect. 48.1 (Jan 2003): 14-19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ademic Search Premier. EBSCOhost. Red River College Library, Winnipeg, MB. 1 Nov. 2004 &lt;http://search.epnet.co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ources for this Presentation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3111480"/>
            <a:ext cx="850752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. Abe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ibe, PhD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 MLA Web Sheet: A Brief Guide to Referencing Internet Sour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 Oct. 2004. Dec. 2004 &lt;</a:t>
            </a:r>
            <a:r>
              <a:rPr b="0" lang="en-US" sz="2800" spc="-1" strike="noStrike" u="sng">
                <a:solidFill>
                  <a:srgbClr val="00dbd6"/>
                </a:solidFill>
                <a:uFillTx/>
                <a:latin typeface="Arial"/>
                <a:hlinkClick r:id="rId2"/>
              </a:rPr>
              <a:t>http://www.docstyles.com/mlaguide.ht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gt;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776680" y="1484280"/>
            <a:ext cx="4532040" cy="1360440"/>
          </a:xfrm>
          <a:prstGeom prst="borderCallout1">
            <a:avLst>
              <a:gd name="adj1" fmla="val 18750"/>
              <a:gd name="adj2" fmla="val -8333"/>
              <a:gd name="adj3" fmla="val 127069"/>
              <a:gd name="adj4" fmla="val -1120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While this appears to be the author’s name, it is actually a fictional name that is the name of of the web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332000" y="5445000"/>
            <a:ext cx="1500120" cy="865440"/>
          </a:xfrm>
          <a:prstGeom prst="borderCallout1">
            <a:avLst>
              <a:gd name="adj1" fmla="val 18750"/>
              <a:gd name="adj2" fmla="val -8333"/>
              <a:gd name="adj3" fmla="val -123120"/>
              <a:gd name="adj4" fmla="val -751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924360" y="5445000"/>
            <a:ext cx="1201680" cy="827280"/>
          </a:xfrm>
          <a:prstGeom prst="borderCallout1">
            <a:avLst>
              <a:gd name="adj1" fmla="val 18750"/>
              <a:gd name="adj2" fmla="val -8333"/>
              <a:gd name="adj3" fmla="val -125912"/>
              <a:gd name="adj4" fmla="val -8481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cces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6012000" y="544500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78125"/>
              <a:gd name="adj4" fmla="val -10104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Look It Up!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This covers only a small sample of bibliographic e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omplete information is available in style guides or your textbook’s append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eyer 336-3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hill, Bovee, and Cross 575-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5760" y="337680"/>
            <a:ext cx="7258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Direct Quotations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parenthetical references to show information obtained from other sour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author’s name and the page number after the referenc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receiving an editorial comment about ending a sentence with a preposition, Winston Churchill was reported to have said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sort of pedantry up with which I will not put” (Halle 16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4572000" y="5734080"/>
            <a:ext cx="2374920" cy="538200"/>
          </a:xfrm>
          <a:prstGeom prst="borderCallout2">
            <a:avLst>
              <a:gd name="adj1" fmla="val 18750"/>
              <a:gd name="adj2" fmla="val -8333"/>
              <a:gd name="adj3" fmla="val 21240"/>
              <a:gd name="adj4" fmla="val -10495"/>
              <a:gd name="adj5" fmla="val -32745"/>
              <a:gd name="adj6" fmla="val -17782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&amp; pag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Paraphrasing Information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Paraphrasing information is usually preferable to quo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ch of the deterioration of the Titanic is caused by visitors (Ballard 108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llard argues that much of the deterioration of the Titanic is caused by visitors (108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000680" y="3429000"/>
            <a:ext cx="3308040" cy="503280"/>
          </a:xfrm>
          <a:prstGeom prst="borderCallout1">
            <a:avLst>
              <a:gd name="adj1" fmla="val 18750"/>
              <a:gd name="adj2" fmla="val -8333"/>
              <a:gd name="adj3" fmla="val -23657"/>
              <a:gd name="adj4" fmla="val -1108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and pag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179360" y="5373720"/>
            <a:ext cx="3816360" cy="863640"/>
          </a:xfrm>
          <a:prstGeom prst="borderCallout1">
            <a:avLst>
              <a:gd name="adj1" fmla="val 18750"/>
              <a:gd name="adj2" fmla="val -8333"/>
              <a:gd name="adj3" fmla="val -23347"/>
              <a:gd name="adj4" fmla="val 11489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List only the page number if the  author’s name has been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Information from the Interne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 from the Internet must be ci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author is unknown, use a shortened version of the title in the parenthetical referenc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River College has more than 100 full-time programs (Admissions at RR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Common Knowledge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Information that could be found in a number of sources does not require a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itanic struck an iceberg and sank in 19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788000" y="3068640"/>
            <a:ext cx="3163680" cy="60948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-22879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No referenc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Works Cited Page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Include full bibliographic information at the end of your pap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all this page “Works Cited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Entries should be arranged alphabetically by authors’ last nam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Format the entries with a hanging indent (outden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Entry for a Book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3440" y="2287440"/>
            <a:ext cx="79833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lle, Kay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Irrepressible Churchill: Stories, Sayings and Impressions of Sir Winston Churchil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London: Robson Books, 1987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419200" y="1628640"/>
            <a:ext cx="1008360" cy="403200"/>
          </a:xfrm>
          <a:prstGeom prst="borderCallout1">
            <a:avLst>
              <a:gd name="adj1" fmla="val 18750"/>
              <a:gd name="adj2" fmla="val -8333"/>
              <a:gd name="adj3" fmla="val 185435"/>
              <a:gd name="adj4" fmla="val -5842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667640" y="1557360"/>
            <a:ext cx="1289160" cy="792000"/>
          </a:xfrm>
          <a:prstGeom prst="borderCallout1">
            <a:avLst>
              <a:gd name="adj1" fmla="val 18750"/>
              <a:gd name="adj2" fmla="val -8333"/>
              <a:gd name="adj3" fmla="val 115027"/>
              <a:gd name="adj4" fmla="val -6798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Title and 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7451640" y="4508640"/>
            <a:ext cx="1381320" cy="792000"/>
          </a:xfrm>
          <a:prstGeom prst="borderCallout1">
            <a:avLst>
              <a:gd name="adj1" fmla="val 18750"/>
              <a:gd name="adj2" fmla="val -8333"/>
              <a:gd name="adj3" fmla="val -82763"/>
              <a:gd name="adj4" fmla="val -2505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sh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843280" y="4292640"/>
            <a:ext cx="2411280" cy="403200"/>
          </a:xfrm>
          <a:prstGeom prst="borderCallout1">
            <a:avLst>
              <a:gd name="adj1" fmla="val 18750"/>
              <a:gd name="adj2" fmla="val -8333"/>
              <a:gd name="adj3" fmla="val -125199"/>
              <a:gd name="adj4" fmla="val 11474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City wher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68360" y="465300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-54523"/>
              <a:gd name="adj4" fmla="val 14785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473480" y="5661000"/>
            <a:ext cx="70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periods to separate th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Journal Article Entry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2080" y="2585520"/>
            <a:ext cx="779472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allard, Robert D. “Why is Titanic Vanishing?” 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</a:rPr>
              <a:t>National Geographic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 206.6 (2004): 96-11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776680" y="1730520"/>
            <a:ext cx="1074600" cy="474480"/>
          </a:xfrm>
          <a:prstGeom prst="borderCallout1">
            <a:avLst>
              <a:gd name="adj1" fmla="val 18750"/>
              <a:gd name="adj2" fmla="val -8333"/>
              <a:gd name="adj3" fmla="val 206018"/>
              <a:gd name="adj4" fmla="val -5406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740720" y="1916280"/>
            <a:ext cx="1224000" cy="936360"/>
          </a:xfrm>
          <a:prstGeom prst="borderCallout1">
            <a:avLst>
              <a:gd name="adj1" fmla="val 18750"/>
              <a:gd name="adj2" fmla="val -8333"/>
              <a:gd name="adj3" fmla="val 117120"/>
              <a:gd name="adj4" fmla="val -4773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Journal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5364000" y="1628640"/>
            <a:ext cx="1511640" cy="609840"/>
          </a:xfrm>
          <a:prstGeom prst="borderCallout1">
            <a:avLst>
              <a:gd name="adj1" fmla="val 18750"/>
              <a:gd name="adj2" fmla="val -8333"/>
              <a:gd name="adj3" fmla="val 160416"/>
              <a:gd name="adj4" fmla="val -3844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rticl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012000" y="4005360"/>
            <a:ext cx="1585800" cy="863640"/>
          </a:xfrm>
          <a:prstGeom prst="borderCallout1">
            <a:avLst>
              <a:gd name="adj1" fmla="val 18750"/>
              <a:gd name="adj2" fmla="val -8333"/>
              <a:gd name="adj3" fmla="val -42648"/>
              <a:gd name="adj4" fmla="val 12482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Volume # and Issu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627280" y="4941720"/>
            <a:ext cx="1008000" cy="505080"/>
          </a:xfrm>
          <a:prstGeom prst="borderCallout1">
            <a:avLst>
              <a:gd name="adj1" fmla="val 18750"/>
              <a:gd name="adj2" fmla="val -8333"/>
              <a:gd name="adj3" fmla="val -139620"/>
              <a:gd name="adj4" fmla="val 115907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39640" y="4581360"/>
            <a:ext cx="1150920" cy="505080"/>
          </a:xfrm>
          <a:prstGeom prst="borderCallout1">
            <a:avLst>
              <a:gd name="adj1" fmla="val 18750"/>
              <a:gd name="adj2" fmla="val -8333"/>
              <a:gd name="adj3" fmla="val -94967"/>
              <a:gd name="adj4" fmla="val 13710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Web Page Entry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507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nce of Manitoba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Odour-control Tax Credit In Place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5 Dec. 2004. 15 Dec. 2007 &lt;</a:t>
            </a:r>
            <a:r>
              <a:rPr b="0" lang="en-US" sz="3200" spc="-1" strike="noStrike" u="sng">
                <a:solidFill>
                  <a:srgbClr val="00dbd6"/>
                </a:solidFill>
                <a:uFillTx/>
                <a:latin typeface="Arial"/>
                <a:hlinkClick r:id="rId2"/>
              </a:rPr>
              <a:t>http://www.gov.mb.ca/finance/fedprov/odour.htm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86000" y="1197000"/>
            <a:ext cx="2928960" cy="446040"/>
          </a:xfrm>
          <a:prstGeom prst="borderCallout1">
            <a:avLst>
              <a:gd name="adj1" fmla="val 18750"/>
              <a:gd name="adj2" fmla="val -8333"/>
              <a:gd name="adj3" fmla="val 166601"/>
              <a:gd name="adj4" fmla="val -29347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(gov’t bra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5929200" y="1143000"/>
            <a:ext cx="2016360" cy="434880"/>
          </a:xfrm>
          <a:prstGeom prst="borderCallout1">
            <a:avLst>
              <a:gd name="adj1" fmla="val 18750"/>
              <a:gd name="adj2" fmla="val -8333"/>
              <a:gd name="adj3" fmla="val 186995"/>
              <a:gd name="adj4" fmla="val -2826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857920" y="3429000"/>
            <a:ext cx="1500120" cy="865080"/>
          </a:xfrm>
          <a:prstGeom prst="borderCallout1">
            <a:avLst>
              <a:gd name="adj1" fmla="val 18750"/>
              <a:gd name="adj2" fmla="val -8333"/>
              <a:gd name="adj3" fmla="val -83486"/>
              <a:gd name="adj4" fmla="val -42939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7572240" y="3429000"/>
            <a:ext cx="1202040" cy="826920"/>
          </a:xfrm>
          <a:prstGeom prst="borderCallout1">
            <a:avLst>
              <a:gd name="adj1" fmla="val 18750"/>
              <a:gd name="adj2" fmla="val -8333"/>
              <a:gd name="adj3" fmla="val -100958"/>
              <a:gd name="adj4" fmla="val -10832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cces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14800" y="3500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5097"/>
              <a:gd name="adj4" fmla="val -7781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39640" y="494172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missions at R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Red River College, Winnipeg. 15 May 2008. &lt;</a:t>
            </a:r>
            <a:r>
              <a:rPr b="0" lang="en-US" sz="3200" spc="-1" strike="noStrike" u="sng">
                <a:solidFill>
                  <a:srgbClr val="00dbd6"/>
                </a:solidFill>
                <a:uFillTx/>
                <a:latin typeface="Arial"/>
                <a:hlinkClick r:id="rId3"/>
              </a:rPr>
              <a:t>http://me.rrc.mb.ca/Catalogue/Default.aspx?Link=Programs.asp?DeliveryCode=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500200" y="4357800"/>
            <a:ext cx="1857600" cy="609480"/>
          </a:xfrm>
          <a:prstGeom prst="borderCallout1">
            <a:avLst>
              <a:gd name="adj1" fmla="val 18750"/>
              <a:gd name="adj2" fmla="val -8333"/>
              <a:gd name="adj3" fmla="val 123388"/>
              <a:gd name="adj4" fmla="val -6063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Title of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072120" y="4357800"/>
            <a:ext cx="2357640" cy="609480"/>
          </a:xfrm>
          <a:prstGeom prst="borderCallout1">
            <a:avLst>
              <a:gd name="adj1" fmla="val 18750"/>
              <a:gd name="adj2" fmla="val -8333"/>
              <a:gd name="adj3" fmla="val 123388"/>
              <a:gd name="adj4" fmla="val -6063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Sponsoring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5:39:31Z</dcterms:created>
  <dc:creator>Les Hanson</dc:creator>
  <dc:description/>
  <dc:language>en-US</dc:language>
  <cp:lastModifiedBy>Admin</cp:lastModifiedBy>
  <dcterms:modified xsi:type="dcterms:W3CDTF">2010-11-18T16:58:30Z</dcterms:modified>
  <cp:revision>31</cp:revision>
  <dc:subject/>
  <dc:title>MLA Style</dc:title>
</cp:coreProperties>
</file>